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BBD8F3-E535-463B-9FD6-B436C76D6A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180D05-4EB3-4FE9-AF02-3CEB2ADFF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A23EBB-5D02-4AD2-844B-8ACDAD953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0DA8-C10C-40BF-97BA-0C34A5DF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BE32-E5D4-460A-86ED-F9E36C91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6E1D-9DD0-4737-97A0-F587DF3C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C66E-F5CC-4593-B27A-65EE89A10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5915-7669-48F0-95F3-2A264FD76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F4B1-92D7-42BC-9EBF-741F7D80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3366-58B4-482A-949A-0CE1BC488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26264-CD80-4B06-990A-21D267C31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F9BB-8254-4FBF-8160-7EC04BAC1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ED7-E261-4FB1-9A20-2F4A9CA5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8D9-4662-49FA-9C10-3C79383A3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56B1D-AA91-4A38-A7AD-192B688D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9229BD-F348-44F2-A9F3-4079D3B74E0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9" name="TextBox 4"/>
          <p:cNvSpPr/>
          <p:nvPr/>
        </p:nvSpPr>
        <p:spPr>
          <a:xfrm>
            <a:off x="1040400" y="3906720"/>
            <a:ext cx="726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VERSITY OF VIRGINIA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BRARIES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Content Placeholder 3" descr="aviator.jpg"/>
          <p:cNvPicPr/>
          <p:nvPr/>
        </p:nvPicPr>
        <p:blipFill>
          <a:blip r:embed="rId1"/>
          <a:srcRect l="0" t="529" r="0" b="52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itle 1"/>
          <p:cNvSpPr/>
          <p:nvPr/>
        </p:nvSpPr>
        <p:spPr>
          <a:xfrm>
            <a:off x="914400" y="-2365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ARCH. FIND. SUCCEED.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TextBox 1"/>
          <p:cNvSpPr/>
          <p:nvPr/>
        </p:nvSpPr>
        <p:spPr>
          <a:xfrm>
            <a:off x="7443360" y="6485040"/>
            <a:ext cx="153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hoto by Yonas Hassen</a:t>
            </a:r>
            <a:endParaRPr b="0" lang="en-US" sz="1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itle 1"/>
          <p:cNvSpPr/>
          <p:nvPr/>
        </p:nvSpPr>
        <p:spPr>
          <a:xfrm>
            <a:off x="1506600" y="2938320"/>
            <a:ext cx="605952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YING A TOPIC 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&amp; SEARCH STRATEGIES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512px-5-skylt,_Swedish_roadsign.png"/>
          <p:cNvPicPr/>
          <p:nvPr/>
        </p:nvPicPr>
        <p:blipFill>
          <a:blip r:embed="rId1"/>
          <a:stretch/>
        </p:blipFill>
        <p:spPr>
          <a:xfrm>
            <a:off x="2895480" y="2362320"/>
            <a:ext cx="3353040" cy="33526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28600" y="30492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dentifying a Topic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ting Started Search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2991240" y="5943600"/>
            <a:ext cx="331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Five Step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304920" y="3581280"/>
            <a:ext cx="8686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ample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Write a paper about any topic in the subject of genetics using two outside sources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Box 3"/>
          <p:cNvSpPr/>
          <p:nvPr/>
        </p:nvSpPr>
        <p:spPr>
          <a:xfrm>
            <a:off x="3429000" y="3049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p One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now Your Assignment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6" name="Picture 4" descr="1242796868203109724Number_1_in_green_rounded_square.svg.med.png"/>
          <p:cNvPicPr/>
          <p:nvPr/>
        </p:nvPicPr>
        <p:blipFill>
          <a:blip r:embed="rId1"/>
          <a:stretch/>
        </p:blipFill>
        <p:spPr>
          <a:xfrm>
            <a:off x="-6480" y="0"/>
            <a:ext cx="2698920" cy="269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Box 2"/>
          <p:cNvSpPr/>
          <p:nvPr/>
        </p:nvSpPr>
        <p:spPr>
          <a:xfrm>
            <a:off x="3429000" y="30492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p Two: 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oose Your Main Ide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8" name="Picture 6" descr="256px-Number_2_in_light_blue_rounded_square.png"/>
          <p:cNvPicPr/>
          <p:nvPr/>
        </p:nvPicPr>
        <p:blipFill>
          <a:blip r:embed="rId1"/>
          <a:stretch/>
        </p:blipFill>
        <p:spPr>
          <a:xfrm>
            <a:off x="0" y="25560"/>
            <a:ext cx="2717640" cy="271764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"/>
          <p:cNvSpPr/>
          <p:nvPr/>
        </p:nvSpPr>
        <p:spPr>
          <a:xfrm>
            <a:off x="304920" y="3581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ample: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Human Clon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2"/>
          <p:cNvSpPr/>
          <p:nvPr/>
        </p:nvSpPr>
        <p:spPr>
          <a:xfrm>
            <a:off x="3429000" y="304920"/>
            <a:ext cx="556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p Thre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ke a Concept Cloud with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ated Ideas and Synony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304920" y="3581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Clon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1839600" y="5410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3590280" y="4952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Bioeth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996840" y="57913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th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TextBox 10"/>
          <p:cNvSpPr/>
          <p:nvPr/>
        </p:nvSpPr>
        <p:spPr>
          <a:xfrm>
            <a:off x="5274720" y="52578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enetic Enginee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TextBox 11"/>
          <p:cNvSpPr/>
          <p:nvPr/>
        </p:nvSpPr>
        <p:spPr>
          <a:xfrm>
            <a:off x="5114880" y="609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TextBox 12"/>
          <p:cNvSpPr/>
          <p:nvPr/>
        </p:nvSpPr>
        <p:spPr>
          <a:xfrm>
            <a:off x="6031440" y="4343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Playing G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TextBox 13"/>
          <p:cNvSpPr/>
          <p:nvPr/>
        </p:nvSpPr>
        <p:spPr>
          <a:xfrm>
            <a:off x="700560" y="45720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ene Mod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14" descr="256px-Number_3_in_yellow_rounded_square.png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3429000" y="30492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p Four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ick Keywords from Your Concept Cloud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Text Box 4"/>
          <p:cNvSpPr/>
          <p:nvPr/>
        </p:nvSpPr>
        <p:spPr>
          <a:xfrm>
            <a:off x="304920" y="3581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Human Cloning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TextBox 3"/>
          <p:cNvSpPr/>
          <p:nvPr/>
        </p:nvSpPr>
        <p:spPr>
          <a:xfrm>
            <a:off x="1839600" y="5410080"/>
            <a:ext cx="187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Experiment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TextBox 4"/>
          <p:cNvSpPr/>
          <p:nvPr/>
        </p:nvSpPr>
        <p:spPr>
          <a:xfrm>
            <a:off x="3590280" y="4952880"/>
            <a:ext cx="141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oeth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TextBox 5"/>
          <p:cNvSpPr/>
          <p:nvPr/>
        </p:nvSpPr>
        <p:spPr>
          <a:xfrm>
            <a:off x="996840" y="579132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thics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TextBox 6"/>
          <p:cNvSpPr/>
          <p:nvPr/>
        </p:nvSpPr>
        <p:spPr>
          <a:xfrm>
            <a:off x="5274720" y="5257800"/>
            <a:ext cx="29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enetic Engineering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TextBox 7"/>
          <p:cNvSpPr/>
          <p:nvPr/>
        </p:nvSpPr>
        <p:spPr>
          <a:xfrm>
            <a:off x="5114880" y="60958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lig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6031440" y="4343400"/>
            <a:ext cx="18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laying God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TextBox 9"/>
          <p:cNvSpPr/>
          <p:nvPr/>
        </p:nvSpPr>
        <p:spPr>
          <a:xfrm>
            <a:off x="700560" y="4572000"/>
            <a:ext cx="263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ne Modification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9" name="Picture 10" descr="256px-Number_3_in_yellow_rounded_square.png"/>
          <p:cNvPicPr/>
          <p:nvPr/>
        </p:nvPicPr>
        <p:blipFill>
          <a:blip r:embed="rId1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1" descr="256px-Number_4_in_red_rounded_square.png"/>
          <p:cNvPicPr/>
          <p:nvPr/>
        </p:nvPicPr>
        <p:blipFill>
          <a:blip r:embed="rId2"/>
          <a:stretch/>
        </p:blipFill>
        <p:spPr>
          <a:xfrm>
            <a:off x="0" y="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1"/>
          <p:cNvSpPr/>
          <p:nvPr/>
        </p:nvSpPr>
        <p:spPr>
          <a:xfrm>
            <a:off x="3429000" y="304920"/>
            <a:ext cx="5562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ep Five: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uild Your Search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ing Keyword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304920" y="3581280"/>
            <a:ext cx="868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Genetic Engineering 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nd</a:t>
            </a:r>
            <a:r>
              <a:rPr b="0" lang="en-US" sz="4000" spc="-1" strike="noStrike">
                <a:solidFill>
                  <a:srgbClr val="b9cde5"/>
                </a:solidFill>
                <a:latin typeface="Arial"/>
                <a:ea typeface="ＭＳ Ｐゴシック"/>
              </a:rPr>
              <a:t> 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ＭＳ Ｐゴシック"/>
              </a:rPr>
              <a:t>Ethic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3" name="Picture 1" descr="Five.jpg"/>
          <p:cNvPicPr/>
          <p:nvPr/>
        </p:nvPicPr>
        <p:blipFill>
          <a:blip r:embed="rId1"/>
          <a:stretch/>
        </p:blipFill>
        <p:spPr>
          <a:xfrm>
            <a:off x="0" y="0"/>
            <a:ext cx="2700360" cy="331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0" y="1600200"/>
            <a:ext cx="91440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words would experts in this field use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Arial"/>
                <a:ea typeface="ＭＳ Ｐゴシック"/>
              </a:rPr>
              <a:t>Is your topic the right size for your assignment?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ou might be able to change the focus of your topic if you find something more interesting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79646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79646"/>
                </a:solidFill>
                <a:latin typeface="Arial"/>
                <a:ea typeface="ＭＳ Ｐゴシック"/>
              </a:rPr>
              <a:t>How many sources do you need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sk your teacher (or a librarian!) for help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5" name="Picture 3" descr="512px-5-skylt,_Swedish_roadsign.png"/>
          <p:cNvPicPr/>
          <p:nvPr/>
        </p:nvPicPr>
        <p:blipFill>
          <a:blip r:embed="rId1"/>
          <a:stretch/>
        </p:blipFill>
        <p:spPr>
          <a:xfrm>
            <a:off x="0" y="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512px-5-skylt,_Swedish_roadsign.png"/>
          <p:cNvPicPr/>
          <p:nvPr/>
        </p:nvPicPr>
        <p:blipFill>
          <a:blip r:embed="rId2"/>
          <a:stretch/>
        </p:blipFill>
        <p:spPr>
          <a:xfrm>
            <a:off x="7924680" y="0"/>
            <a:ext cx="1219320" cy="121932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1700640" y="304920"/>
            <a:ext cx="572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hings to Think About: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9T13:13:09Z</dcterms:created>
  <dc:creator>Meridith Wolnick</dc:creator>
  <dc:description/>
  <dc:language>en-US</dc:language>
  <cp:lastModifiedBy>MaryAnn Hebert</cp:lastModifiedBy>
  <dcterms:modified xsi:type="dcterms:W3CDTF">2012-09-25T13:41:51Z</dcterms:modified>
  <cp:revision>10</cp:revision>
  <dc:subject/>
  <dc:title>PowerPoint Presentation</dc:title>
</cp:coreProperties>
</file>